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1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FCD-CAD7-4566-885A-05DBECB3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CA7-37F7-4192-8FFD-0C52E729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AB1-6DD6-48C5-9597-145F3BC1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BBF-281D-40B0-838D-E7DF1266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31A-3C97-48C7-9A1A-47B22F53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026-7C3A-4478-A36C-449A6C5C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89F-AD84-47BA-8CDF-2D1E59CA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83B-F873-4AC7-8C49-0C6E659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4E3-164D-405D-A24F-1A1EDD41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FD8-C6F2-4E79-99C8-C11B446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E4E-3042-4473-A9C7-71BA9C7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4AD-A818-4CB0-B0BC-BBA067D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BFD-DDE2-4978-8DBE-CFE69B2CD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385640"/>
            <a:ext cx="784512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ЕМАТИ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30404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янва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s://otvet.imgsmail.ru/download/u_3391ee13598145560b6f4144ff712dc4_800.jpg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upload.wikimedia.org/wikipedia/commons/thumb/e/e7/Necker_cube.svg/2000px-Necker_cube.svg.png"/>
          <p:cNvPicPr/>
          <p:nvPr/>
        </p:nvPicPr>
        <p:blipFill>
          <a:blip r:embed="rId1"/>
          <a:stretch/>
        </p:blipFill>
        <p:spPr>
          <a:xfrm>
            <a:off x="-108000" y="620640"/>
            <a:ext cx="502776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s://ds04.infourok.ru/uploads/ex/0ee0/0011e92f-c068cfcd/hello_html_3beea0b7.gif"/>
          <p:cNvPicPr/>
          <p:nvPr/>
        </p:nvPicPr>
        <p:blipFill>
          <a:blip r:embed="rId2"/>
          <a:stretch/>
        </p:blipFill>
        <p:spPr>
          <a:xfrm>
            <a:off x="4788000" y="1763640"/>
            <a:ext cx="40622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2:7+8=      А            63: (14:2)=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- 5*9=     Л           (56-24):8=      П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*9-20=      Д           64: (2*4)=    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*5:2=       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981000"/>
            <a:ext cx="727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ллелепипе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ый параллелепипед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69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СПОРТ ФИГУ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 пропуски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ямоугольного параллелепипе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шин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раней 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ёб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ивоположные грани прямоугольного параллелепипед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-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 пропуски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ямоугольного параллелепипе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шин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раней 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ёб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ивоположные грани прямоугольного параллелепипед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48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словар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51280" y="1844280"/>
            <a:ext cx="483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ый параллелепипед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объёмная фигура, у которой 6 граней, и каждая из них является прямоуголь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Куб 8"/>
          <p:cNvSpPr/>
          <p:nvPr/>
        </p:nvSpPr>
        <p:spPr>
          <a:xfrm>
            <a:off x="324000" y="2276640"/>
            <a:ext cx="2857320" cy="1857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reeform 9"/>
          <p:cNvSpPr/>
          <p:nvPr/>
        </p:nvSpPr>
        <p:spPr>
          <a:xfrm>
            <a:off x="6357960" y="3786120"/>
            <a:ext cx="857160" cy="2000160"/>
          </a:xfrm>
          <a:custGeom>
            <a:avLst/>
            <a:gdLst>
              <a:gd name="textAreaLeft" fmla="*/ 0 w 857160"/>
              <a:gd name="textAreaRight" fmla="*/ 857520 w 85716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545" h="2178">
                <a:moveTo>
                  <a:pt x="0" y="933"/>
                </a:moveTo>
                <a:lnTo>
                  <a:pt x="545" y="0"/>
                </a:lnTo>
                <a:lnTo>
                  <a:pt x="545" y="1166"/>
                </a:lnTo>
                <a:lnTo>
                  <a:pt x="0" y="2178"/>
                </a:lnTo>
                <a:lnTo>
                  <a:pt x="0" y="9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араллелограмм 15"/>
          <p:cNvSpPr/>
          <p:nvPr/>
        </p:nvSpPr>
        <p:spPr>
          <a:xfrm>
            <a:off x="3357720" y="4857840"/>
            <a:ext cx="2643120" cy="914400"/>
          </a:xfrm>
          <a:prstGeom prst="parallelogram">
            <a:avLst>
              <a:gd name="adj" fmla="val 100353"/>
            </a:avLst>
          </a:prstGeom>
          <a:solidFill>
            <a:srgbClr val="c4089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араллелограмм 16"/>
          <p:cNvSpPr/>
          <p:nvPr/>
        </p:nvSpPr>
        <p:spPr>
          <a:xfrm>
            <a:off x="3357720" y="3786120"/>
            <a:ext cx="2643120" cy="914400"/>
          </a:xfrm>
          <a:prstGeom prst="parallelogram">
            <a:avLst>
              <a:gd name="adj" fmla="val 100353"/>
            </a:avLst>
          </a:prstGeom>
          <a:solidFill>
            <a:srgbClr val="fba3e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1860480" y="333360"/>
            <a:ext cx="6712200" cy="2158920"/>
          </a:xfrm>
          <a:prstGeom prst="rect">
            <a:avLst/>
          </a:prstGeom>
          <a:solidFill>
            <a:srgbClr val="ccec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положные грани прямоугольного параллелепипе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1285920" y="3714840"/>
            <a:ext cx="1795320" cy="10857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28760" y="4643280"/>
            <a:ext cx="1785960" cy="10717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428760" y="4643280"/>
            <a:ext cx="1785960" cy="10717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357720" y="4714920"/>
            <a:ext cx="1714320" cy="10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357960" y="4714920"/>
            <a:ext cx="1785960" cy="10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8143920" y="3786120"/>
            <a:ext cx="857160" cy="2000160"/>
          </a:xfrm>
          <a:custGeom>
            <a:avLst/>
            <a:gdLst>
              <a:gd name="textAreaLeft" fmla="*/ 0 w 857160"/>
              <a:gd name="textAreaRight" fmla="*/ 857520 w 85716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545" h="2178">
                <a:moveTo>
                  <a:pt x="0" y="933"/>
                </a:moveTo>
                <a:lnTo>
                  <a:pt x="545" y="0"/>
                </a:lnTo>
                <a:lnTo>
                  <a:pt x="545" y="1166"/>
                </a:lnTo>
                <a:lnTo>
                  <a:pt x="0" y="2178"/>
                </a:lnTo>
                <a:lnTo>
                  <a:pt x="0" y="93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476360" y="765000"/>
            <a:ext cx="4751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физкультминутка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524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9440" y="1385640"/>
            <a:ext cx="784512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   круг  шар  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     прямоугольник к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s://fs01.infourok.ru/images/doc/49/61386/img13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ьцбургский параллелепипед – артефакт в куске уг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Зальцбургский параллелепипед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53863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500720" y="1628640"/>
            <a:ext cx="439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boto"/>
              </a:rPr>
              <a:t>Находка в куске уг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638c"/>
                </a:solidFill>
                <a:latin typeface="Roboto"/>
              </a:rPr>
              <a:t>Зальцбургский параллелепипед был обнаружен 1 ноября 1885 года в Австрии в городе Шендорфе,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 когда истопник Рейдль фабрики Исидора Брауна расколол большой кусок угля и оттуда выпал странный металлический предмет. Находка напоминала по форме куб, который делила пополам глубокая бороздка. Найденный предмет владельцем фабрики был подарен музею Каролины Августы в Зальцбурге для подробного из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reef-master.ru/upload/iblock/162/1620d55b16a4e371638b60d6e0664143.jp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-КИРПИЧ, МЯЧИК, ЛАМПА, КОРОБКА, ПЕНАЛ, АРБ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ГРАНЕЙ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РЕБЕР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ЕРШИН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Дорисуй параллелепип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ИРПИ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МЯЧИК, ЛАМПА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РОБКА, ПЕНАЛ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Б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ГРАНЕЙ-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РЕБЕР-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ЕРШИН-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Дорисуй параллелепип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771280" y="3789000"/>
            <a:ext cx="5535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avatars.mds.yandex.net/get-pdb/1365646/b0d608a1-9daf-4dcb-9409-fb55f9accfd0/s1200"/>
          <p:cNvPicPr/>
          <p:nvPr/>
        </p:nvPicPr>
        <p:blipFill>
          <a:blip r:embed="rId1"/>
          <a:stretch/>
        </p:blipFill>
        <p:spPr>
          <a:xfrm>
            <a:off x="436680" y="-65160"/>
            <a:ext cx="816768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s://avatars.mds.yandex.net/get-pdb/199965/295e6be4-b6ce-4a98-9095-708a8d9ae1c0/s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s://avatars.mds.yandex.net/get-pdb/199965/295e6be4-b6ce-4a98-9095-708a8d9ae1c0/s1200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funart.pro/uploads/posts/2019-11/1573817790_piramida-heopsa-egipet-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s://polesie-igrushki.ru/upload/iblock/ad2/ad210d92ca327cf40e4d998baa5b9929.JPG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s://static-eu.insales.ru/images/products/1/1377/261088609/_Gift1_.png"/>
          <p:cNvPicPr/>
          <p:nvPr/>
        </p:nvPicPr>
        <p:blipFill>
          <a:blip r:embed="rId1"/>
          <a:stretch/>
        </p:blipFill>
        <p:spPr>
          <a:xfrm>
            <a:off x="1042920" y="0"/>
            <a:ext cx="73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cdn1.ozone.ru/multimedia/10290960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get.pxhere.com/photo/plant-fruit-orange-food-produce-fresh-tangerine-clementine-citrus-flowering-plant-bitter-orange-mandarin-orange-land-plant-tangelo-valencia-orange-10546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5:14:55Z</dcterms:created>
  <dc:creator>Admin</dc:creator>
  <dc:description/>
  <dc:language>en-US</dc:language>
  <cp:lastModifiedBy>Пользователь</cp:lastModifiedBy>
  <dcterms:modified xsi:type="dcterms:W3CDTF">2020-01-20T11:12:23Z</dcterms:modified>
  <cp:revision>19</cp:revision>
  <dc:subject/>
  <dc:title>Презентация PowerPoint</dc:title>
</cp:coreProperties>
</file>